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3AAA-EF13-4AD3-84FA-F8179FCD2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80A0-C011-499E-926D-8404301EF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C205-1DDA-4A78-B71D-14D2FC805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7A17-CC19-413F-8D02-2258F6589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9CC8-D5F5-4C4E-97C3-22A573A95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DDC9-052C-402C-9E3D-E9371ADA5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39E0-79A0-4D76-A66B-049DDDBCC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1D6B-10AD-41CD-BDDC-A24071D8F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13AA-BCDE-47E5-BA4C-8765CA5BC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652B-4F40-474C-9A55-D90A11A11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C214-AF20-46C1-8CDA-8025702F2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959D-01AE-4E76-96B3-924049122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59926-0D4F-480D-B368-F1923BF96B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Baskerville Old Face"/>
              </a:rPr>
              <a:t>Bugs Pre-Tes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2133720"/>
            <a:ext cx="43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5280" y="364500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26920" y="479736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cts 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0" y="234936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yc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64000" y="3284640"/>
            <a:ext cx="28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5640" y="508464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26920" y="5516640"/>
            <a:ext cx="28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pec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9280" y="2708280"/>
            <a:ext cx="410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cts live in different environment some insects live in wet environment some insects live in dry environ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003640" y="4221000"/>
            <a:ext cx="37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nsects eat leaves hone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7T02:41:37Z</dcterms:created>
  <dc:creator>jennifer.doeur</dc:creator>
  <dc:description/>
  <dc:language>en-US</dc:language>
  <cp:lastModifiedBy>jennifer.doeur</cp:lastModifiedBy>
  <dcterms:modified xsi:type="dcterms:W3CDTF">2009-03-24T02:40:50Z</dcterms:modified>
  <cp:revision>2</cp:revision>
  <dc:subject/>
  <dc:title>Bugs Pre-Test</dc:title>
</cp:coreProperties>
</file>